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B613E-CD9A-498A-810D-6A8138601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1158F-0824-4464-82A4-F3FE6E308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E876D-4515-4195-94D1-A84F5A94C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93CA9-4080-43E7-82F9-4408A3E42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65280-E4FA-49A4-ACF2-A38472D85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130EE-95C0-4DE4-994F-5C02C6527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0238-0FD6-4051-965E-72F615A88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16651-BB62-4CBE-95D9-C8A6C7867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D19A8-ACC5-43B7-9720-0D7AF511C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B7111-1A1F-43BD-8E55-8A5140635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B3BB8-439C-43EF-A535-844E8F480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8A5A-F477-4E04-9C20-7219DCCC0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CA0F1-4E4D-4350-A681-4B26F577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BF96-51BF-4585-BB89-7239E94F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7DA92-0276-475D-8131-828863224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48143-F574-40A2-AF86-8AD04B673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6F4CC-837A-49DC-96BA-C3B004187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E2632-EA8F-4782-8954-E29CE00E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0862-CFAA-415A-97E2-CF28BB9E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D0622-C57B-4FCA-BBB2-DBF4E24C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94D67-E1EC-4E06-AF44-2D257616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4B19-7B00-4480-A7BA-2E0974E42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9679-92EB-4B85-9BC1-21C9095B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A029-6127-4668-AC51-BA07486C5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172C-85DB-4EE7-B1CA-B0D1BFF8B35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C1A1-5DCE-4D71-9185-75A637442074}"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PlaceHolder 1"/>
          <p:cNvSpPr>
            <a:spLocks noGrp="1"/>
          </p:cNvSpPr>
          <p:nvPr>
            <p:ph type="title"/>
          </p:nvPr>
        </p:nvSpPr>
        <p:spPr>
          <a:xfrm>
            <a:off x="1371240" y="1371240"/>
            <a:ext cx="71629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eaning a Laptop</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pill on Keyboard</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ut down the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computer cleaner on a Q-tip swab and rub on the affected keys until the residue from the spill is gone.  Be careful of the letters/symbols on the key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ressed air into the keys to dry off the keys surface and between the keys.</a:t>
            </a:r>
            <a:endParaRPr b="0" lang="en-US" sz="24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been shown the procedure, it is your turn to try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erform each step slowl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nk it through.</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s time to try it on your own.  You will pair up with a partner and for the next 30 minutes practice showing others how to do a Disk Cleanup on a laptop so they can do it independentl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en the 30 minutes are up, we will come back together and discuss what you learned.</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6"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1:  Have students decide which partner will be the iSquader and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the Student.</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2:  The iSquader will ask the Student what they know about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cleaning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3:  The iSquader will explain to the Student what items are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needed to clean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4:  The iSquader will explain to the Student the purpose of each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of the procedures.</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5:  The iSquader will walk the Student through each step of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cleaning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6:  When the activity is completed, the iSquader will have the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Student review the steps of cleaning a laptop again.</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7:  Reverse Roles </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let’s do a follow up to what we have learned today:</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a LCD screen.</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a keyboard.</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jacks and port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learned the steps of cleaning a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learned the steps of cleaning a spill on a laptop.</a:t>
            </a:r>
            <a:endParaRPr b="0" lang="en-US" sz="2400" spc="-1" strike="noStrike">
              <a:solidFill>
                <a:srgbClr val="212164"/>
              </a:solidFill>
              <a:latin typeface="Arial"/>
            </a:endParaRPr>
          </a:p>
        </p:txBody>
      </p:sp>
      <p:sp>
        <p:nvSpPr>
          <p:cNvPr id="120"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2" name="PlaceHolder 1"/>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et’s Review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laptop LCD scree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keyboard?</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do you clea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do you clean a spill on the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can we assist others to independently cleaning their laptops?</a:t>
            </a:r>
            <a:endParaRPr b="0" lang="en-US" sz="2800" spc="-1" strike="noStrike">
              <a:solidFill>
                <a:srgbClr val="212164"/>
              </a:solidFill>
              <a:latin typeface="Arial"/>
            </a:endParaRPr>
          </a:p>
        </p:txBody>
      </p:sp>
      <p:sp>
        <p:nvSpPr>
          <p:cNvPr id="12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5" name="PlaceHolder 1"/>
          <p:cNvSpPr>
            <a:spLocks noGrp="1"/>
          </p:cNvSpPr>
          <p:nvPr>
            <p:ph type="title"/>
          </p:nvPr>
        </p:nvSpPr>
        <p:spPr>
          <a:xfrm>
            <a:off x="151920" y="198360"/>
            <a:ext cx="8991720" cy="1478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y is it important to clean the laptop LCD screen?</a:t>
            </a:r>
            <a:endParaRPr b="1" lang="en-US" sz="4000" spc="-1" strike="noStrike">
              <a:solidFill>
                <a:srgbClr val="212164"/>
              </a:solidFill>
              <a:latin typeface="Arial"/>
            </a:endParaRPr>
          </a:p>
        </p:txBody>
      </p:sp>
      <p:sp>
        <p:nvSpPr>
          <p:cNvPr id="12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The screen is a LCD (Liquid Crystal) screen.  It should be cleaned for two reasons:</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want to be able to see the screen clearly</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rt and dust can scratch the screen</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8" name="PlaceHolder 1"/>
          <p:cNvSpPr>
            <a:spLocks noGrp="1"/>
          </p:cNvSpPr>
          <p:nvPr>
            <p:ph type="title"/>
          </p:nvPr>
        </p:nvSpPr>
        <p:spPr>
          <a:xfrm>
            <a:off x="151920" y="27432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y is it important to</a:t>
            </a:r>
            <a:br>
              <a:rPr sz="4400"/>
            </a:br>
            <a:r>
              <a:rPr b="1" lang="en-US" sz="4400" spc="-1" strike="noStrike">
                <a:solidFill>
                  <a:srgbClr val="212164"/>
                </a:solidFill>
                <a:latin typeface="Arial"/>
              </a:rPr>
              <a:t>clean the keyboard? </a:t>
            </a:r>
            <a:endParaRPr b="1" lang="en-US" sz="4400" spc="-1" strike="noStrike">
              <a:solidFill>
                <a:srgbClr val="212164"/>
              </a:solidFill>
              <a:latin typeface="Arial"/>
            </a:endParaRPr>
          </a:p>
        </p:txBody>
      </p:sp>
      <p:sp>
        <p:nvSpPr>
          <p:cNvPr id="12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This keeps dirt and dust from building under the keys that cause the keys to stick.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4" name="PlaceHolder 2"/>
          <p:cNvSpPr>
            <a:spLocks noGrp="1"/>
          </p:cNvSpPr>
          <p:nvPr>
            <p:ph/>
          </p:nvPr>
        </p:nvSpPr>
        <p:spPr>
          <a:xfrm>
            <a:off x="685800" y="1828800"/>
            <a:ext cx="7848720" cy="449568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laptop LCD scree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keyboard?</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are the steps taken to clea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are the steps taken to clean a spill o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can we assist others to independently cleaning their laptop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1" name="PlaceHolder 1"/>
          <p:cNvSpPr>
            <a:spLocks noGrp="1"/>
          </p:cNvSpPr>
          <p:nvPr>
            <p:ph type="title"/>
          </p:nvPr>
        </p:nvSpPr>
        <p:spPr>
          <a:xfrm>
            <a:off x="151920" y="27432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items should you use to clean a laptop? </a:t>
            </a:r>
            <a:endParaRPr b="1" lang="en-US" sz="4400" spc="-1" strike="noStrike">
              <a:solidFill>
                <a:srgbClr val="212164"/>
              </a:solidFill>
              <a:latin typeface="Arial"/>
            </a:endParaRPr>
          </a:p>
        </p:txBody>
      </p:sp>
      <p:sp>
        <p:nvSpPr>
          <p:cNvPr id="132" name="PlaceHolder 2"/>
          <p:cNvSpPr>
            <a:spLocks noGrp="1"/>
          </p:cNvSpPr>
          <p:nvPr>
            <p:ph/>
          </p:nvPr>
        </p:nvSpPr>
        <p:spPr>
          <a:xfrm>
            <a:off x="457200" y="2057400"/>
            <a:ext cx="86868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  Items needed to clean a laptop</a:t>
            </a:r>
            <a:endParaRPr b="0" lang="en-US" sz="32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oft Rag</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Q tip swabs</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mputer Cleaner</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mpressed Air</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4" name="PlaceHolder 1"/>
          <p:cNvSpPr>
            <a:spLocks noGrp="1"/>
          </p:cNvSpPr>
          <p:nvPr>
            <p:ph type="title"/>
          </p:nvPr>
        </p:nvSpPr>
        <p:spPr>
          <a:xfrm>
            <a:off x="685800" y="304560"/>
            <a:ext cx="769608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are the steps to</a:t>
            </a:r>
            <a:br>
              <a:rPr sz="4400"/>
            </a:br>
            <a:r>
              <a:rPr b="1" lang="en-US" sz="4400" spc="-1" strike="noStrike">
                <a:solidFill>
                  <a:srgbClr val="212164"/>
                </a:solidFill>
                <a:latin typeface="Arial"/>
              </a:rPr>
              <a:t>clean a laptop? </a:t>
            </a:r>
            <a:endParaRPr b="1" lang="en-US" sz="4400" spc="-1" strike="noStrike">
              <a:solidFill>
                <a:srgbClr val="212164"/>
              </a:solidFill>
              <a:latin typeface="Arial"/>
            </a:endParaRPr>
          </a:p>
        </p:txBody>
      </p:sp>
      <p:sp>
        <p:nvSpPr>
          <p:cNvPr id="135"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a:t>
            </a:r>
            <a:endParaRPr b="0" lang="en-US" sz="36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can of compressed air and blow air between the keys. </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can of compressed air to blow air into all of the jacks and ports on the laptop.</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caution when wiping down the keys.  You do not want to wipe the letters/symbols off the keys.</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The screen is a LCD (Liquid Crystal) screen.  Be very gentle when wiping the screens surface.</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Q-tip swab to clean the corners and crevasses of the laptop.</a:t>
            </a:r>
            <a:endParaRPr b="0" lang="en-US" sz="1800" spc="-1" strike="noStrike">
              <a:solidFill>
                <a:srgbClr val="212164"/>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6"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7" name="PlaceHolder 1"/>
          <p:cNvSpPr>
            <a:spLocks noGrp="1"/>
          </p:cNvSpPr>
          <p:nvPr>
            <p:ph type="title"/>
          </p:nvPr>
        </p:nvSpPr>
        <p:spPr>
          <a:xfrm>
            <a:off x="761760" y="198360"/>
            <a:ext cx="8001000" cy="1478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are the steps to clean a spill on a laptop?</a:t>
            </a:r>
            <a:endParaRPr b="1" lang="en-US" sz="4400" spc="-1" strike="noStrike">
              <a:solidFill>
                <a:srgbClr val="212164"/>
              </a:solidFill>
              <a:latin typeface="Arial"/>
            </a:endParaRPr>
          </a:p>
        </p:txBody>
      </p:sp>
      <p:sp>
        <p:nvSpPr>
          <p:cNvPr id="138"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endParaRPr b="0" lang="en-US" sz="36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ut down the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computer cleaner on a Q-tip swab and rub on the affected keys until the residue from the spill is gone.  Be careful of the letters/symbols on the key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ressed air into the keys to dry off the keys surface and between the key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40" name="PlaceHolder 1"/>
          <p:cNvSpPr>
            <a:spLocks noGrp="1"/>
          </p:cNvSpPr>
          <p:nvPr>
            <p:ph type="title"/>
          </p:nvPr>
        </p:nvSpPr>
        <p:spPr>
          <a:xfrm>
            <a:off x="838080" y="-304920"/>
            <a:ext cx="8305920" cy="19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How can we assist others to independently clean a laptop?</a:t>
            </a:r>
            <a:endParaRPr b="1" lang="en-US" sz="4000" spc="-1" strike="noStrike">
              <a:solidFill>
                <a:srgbClr val="212164"/>
              </a:solidFill>
              <a:latin typeface="Arial"/>
            </a:endParaRPr>
          </a:p>
        </p:txBody>
      </p:sp>
      <p:sp>
        <p:nvSpPr>
          <p:cNvPr id="14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609480" indent="-609480">
              <a:lnSpc>
                <a:spcPct val="90000"/>
              </a:lnSpc>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Share what worked for you and your partner.</a:t>
            </a:r>
            <a:endParaRPr b="0" lang="en-US" sz="36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609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7" name="PlaceHolder 2"/>
          <p:cNvSpPr>
            <a:spLocks noGrp="1"/>
          </p:cNvSpPr>
          <p:nvPr>
            <p:ph/>
          </p:nvPr>
        </p:nvSpPr>
        <p:spPr>
          <a:xfrm>
            <a:off x="533520" y="2133720"/>
            <a:ext cx="815328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e of the common complaints that students have about their school’s technology, many times it does not work.</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e to heavy usage everyday, laptops will begin to breakdown.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 we going to learn how to clean a laptop and share that information with other student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 is important that laptops are operating properly.  The only way that can happen is that basic steps are taken to maintain these laptops.  Today, we will learn how to clean a laptop.</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fore you get started, the laptop should be off.  Any type of liquid and electricity is not good for the laptop.…</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items needed to clean your laptop are as follows:</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oft Rag</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Q tip swab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mputer Cleaner</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mpressed Air</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leaning your Laptop:</a:t>
            </a:r>
            <a:endParaRPr b="0" lang="en-US" sz="28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the can of compressed air and blow air between the keys.  This keeps dirt and dust from building under the keys.  This will cause the keys to stick. </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caution when wiping down the keys.  You do not want to wipe the letters/symbols off the keys.</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the can of compressed air to blow air into all of the jacks and ports on the laptop.  This will ensure that dirt and dust are not building up in the jacks and ports.</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screen is a LCD (Liquid Crystal) screen.  It should be cleaned for two reasons:</a:t>
            </a:r>
            <a:endParaRPr b="0" lang="en-US" sz="2400" spc="-1" strike="noStrike">
              <a:solidFill>
                <a:srgbClr val="212164"/>
              </a:solidFill>
              <a:latin typeface="Arial"/>
            </a:endParaRPr>
          </a:p>
          <a:p>
            <a:pPr lvl="4" marL="2057400" indent="-228600">
              <a:spcBef>
                <a:spcPts val="499"/>
              </a:spcBef>
              <a:buClr>
                <a:srgbClr val="212164"/>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You want to be able to see the screen clearly</a:t>
            </a:r>
            <a:endParaRPr b="0" lang="en-US" sz="2000" spc="-1" strike="noStrike">
              <a:solidFill>
                <a:srgbClr val="212164"/>
              </a:solidFill>
              <a:latin typeface="Arial"/>
            </a:endParaRPr>
          </a:p>
          <a:p>
            <a:pPr lvl="4" marL="2057400" indent="-228600">
              <a:spcBef>
                <a:spcPts val="499"/>
              </a:spcBef>
              <a:buClr>
                <a:srgbClr val="212164"/>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Dirt and dust can scratch the screen</a:t>
            </a:r>
            <a:endParaRPr b="0" lang="en-US" sz="20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e very gentle when wiping the screens surface.</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the Q-tip swab to clean the corners and crevasses of the laptop.</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screen is a LCD (Liquid Crystal) screen.  It should be cleaned for two reasons:</a:t>
            </a:r>
            <a:endParaRPr b="0" lang="en-US" sz="2400" spc="-1" strike="noStrike">
              <a:solidFill>
                <a:srgbClr val="212164"/>
              </a:solidFill>
              <a:latin typeface="Arial"/>
            </a:endParaRPr>
          </a:p>
          <a:p>
            <a:pPr lvl="2" marL="1143000" indent="-228600">
              <a:lnSpc>
                <a:spcPct val="90000"/>
              </a:lnSpc>
              <a:spcBef>
                <a:spcPts val="45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You want to be able to see the screen clearly</a:t>
            </a:r>
            <a:endParaRPr b="0" lang="en-US" sz="1800" spc="-1" strike="noStrike">
              <a:solidFill>
                <a:srgbClr val="212164"/>
              </a:solidFill>
              <a:latin typeface="Arial"/>
            </a:endParaRPr>
          </a:p>
          <a:p>
            <a:pPr lvl="2" marL="1143000" indent="-228600">
              <a:lnSpc>
                <a:spcPct val="90000"/>
              </a:lnSpc>
              <a:spcBef>
                <a:spcPts val="45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Dirt and dust can scratch the screen</a:t>
            </a:r>
            <a:endParaRPr b="0" lang="en-US" sz="18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e very gentle when wiping the screens surfac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the Q-tip swab to clean the corners and crevasses of the laptop.</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07-03-13T18:58:08Z</dcterms:modified>
  <cp:revision>48</cp:revision>
  <dc:subject/>
  <dc:title>Workshop Title</dc:title>
</cp:coreProperties>
</file>